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png" ContentType="image/png"/>
  <Override PartName="/ppt/media/image4.png" ContentType="image/png"/>
  <Override PartName="/ppt/media/image5.gif" ContentType="image/gif"/>
  <Override PartName="/ppt/media/image6.wmf" ContentType="image/x-wmf"/>
  <Override PartName="/ppt/media/image7.wmf" ContentType="image/x-wmf"/>
  <Override PartName="/ppt/media/image8.gif" ContentType="image/gif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0336-60EA-43F7-BFE7-00CBEFD5BBD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C2B0-FBBC-4558-AE2D-472EF89F0296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D5E1-7547-4C53-B79A-01C8822F0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C073-184E-492A-B373-402B7457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649A-3DEA-4BEF-BB93-BAA2157F7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89B4-6206-430F-9725-D53622EAA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9D0A5-09A3-4A29-A447-326ABED4A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6BD35A-247A-4822-8AD6-2879E338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533DC3-1B6B-45CB-AC4E-06AAABA4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B02CD-5404-44A0-8DDC-02561A70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ED0C4-9C05-461D-8F57-0B0093A7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F8483-C96B-4D45-B75B-AF439B31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10391-19D0-4A05-B274-CDA383CB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21E4-E057-455B-8BFA-361D78CA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2A0BF7-18E2-4B74-A0BA-0BC52021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F705D-60CD-45B3-AFFA-A6C000E3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91A66-2D20-424B-8477-27280CA5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A624AA-A0DA-4E53-9560-2B2B9E224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5570E7-B850-470C-A46D-94E7A9E26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28EA-C95B-4D3A-99A7-14E0F3AE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5E3A-5C6B-4626-B5A0-BC057241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F432-4CC4-4B94-8D89-15E4505F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BAC0-1196-4137-95C8-B20669AD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5EA3-D7E2-4D88-A69B-8EEC8357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511E-7BCF-46F0-8220-0CC7D7DF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3814-1774-4F32-AC70-7F429AB8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37BC-A26F-41CA-8854-E12B8FBE690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E8DF-9911-4367-A851-4B5698366832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8D0A-788F-4DB7-85E1-F788818E58DD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258920" y="1844280"/>
            <a:ext cx="6400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Le onde sono perturbazioni che si propagano trasportando energia ma non materi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Tahoma"/>
              </a:rPr>
              <a:t>Le onde meccanich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6" descr="onde trasversali sull'acqua"/>
          <p:cNvPicPr/>
          <p:nvPr/>
        </p:nvPicPr>
        <p:blipFill>
          <a:blip r:embed="rId2"/>
          <a:stretch/>
        </p:blipFill>
        <p:spPr>
          <a:xfrm>
            <a:off x="2484360" y="4365720"/>
            <a:ext cx="3638520" cy="159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0B6B-15ED-4217-B811-7243E47A8122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ahoma"/>
              </a:rPr>
              <a:t>Le caratteristiche di un’ o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lunghezza-onda"/>
          <p:cNvPicPr/>
          <p:nvPr/>
        </p:nvPicPr>
        <p:blipFill>
          <a:blip r:embed="rId2"/>
          <a:stretch/>
        </p:blipFill>
        <p:spPr>
          <a:xfrm>
            <a:off x="755640" y="1052640"/>
            <a:ext cx="3384720" cy="2403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7"/>
          <p:cNvSpPr/>
          <p:nvPr/>
        </p:nvSpPr>
        <p:spPr>
          <a:xfrm>
            <a:off x="482760" y="1690560"/>
            <a:ext cx="351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4788000" y="1052640"/>
            <a:ext cx="3240000" cy="24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Fronte dell’ on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Velocità dell’ on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eriodo dell’ on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Frequenza dell’ on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unghezza d’ on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mpiezza dell’ on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179280" y="3645000"/>
            <a:ext cx="82216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i definisce fronte d’ onda il punto P più avanzato della corda che viene interessato dalla perturbazione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179280" y="4292640"/>
            <a:ext cx="84376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a velocità di propagazione del fronte d’ onda coincidente con ciò che si denominazione usualmente velocità dell’ ond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1" name="Group 19"/>
          <p:cNvGrpSpPr/>
          <p:nvPr/>
        </p:nvGrpSpPr>
        <p:grpSpPr>
          <a:xfrm>
            <a:off x="900000" y="5013360"/>
            <a:ext cx="6408720" cy="1592280"/>
            <a:chOff x="900000" y="5013360"/>
            <a:chExt cx="6408720" cy="1592280"/>
          </a:xfrm>
        </p:grpSpPr>
        <p:sp>
          <p:nvSpPr>
            <p:cNvPr id="102" name="Text Box 20"/>
            <p:cNvSpPr/>
            <p:nvPr/>
          </p:nvSpPr>
          <p:spPr>
            <a:xfrm>
              <a:off x="900000" y="501336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locità</a:t>
              </a:r>
              <a:r>
                <a:rPr b="0" lang="it-IT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(m/s)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03" name="Group 21"/>
            <p:cNvGrpSpPr/>
            <p:nvPr/>
          </p:nvGrpSpPr>
          <p:grpSpPr>
            <a:xfrm>
              <a:off x="2124000" y="5084640"/>
              <a:ext cx="5184720" cy="1521000"/>
              <a:chOff x="2124000" y="5084640"/>
              <a:chExt cx="5184720" cy="1521000"/>
            </a:xfrm>
          </p:grpSpPr>
          <p:sp>
            <p:nvSpPr>
              <p:cNvPr id="104" name="Text Box 22"/>
              <p:cNvSpPr/>
              <p:nvPr/>
            </p:nvSpPr>
            <p:spPr>
              <a:xfrm>
                <a:off x="2484360" y="5084640"/>
                <a:ext cx="2376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Arial"/>
                  </a:rPr>
                  <a:t>V = </a:t>
                </a:r>
                <a:r>
                  <a:rPr b="0" lang="el-GR" sz="2400" spc="-1" strike="noStrike">
                    <a:solidFill>
                      <a:srgbClr val="000000"/>
                    </a:solidFill>
                    <a:latin typeface="Arial"/>
                  </a:rPr>
                  <a:t>λ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· f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Text Box 23"/>
              <p:cNvSpPr/>
              <p:nvPr/>
            </p:nvSpPr>
            <p:spPr>
              <a:xfrm>
                <a:off x="2412720" y="6237360"/>
                <a:ext cx="273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Lunghezza d’ onda (m)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Text Box 24"/>
              <p:cNvSpPr/>
              <p:nvPr/>
            </p:nvSpPr>
            <p:spPr>
              <a:xfrm>
                <a:off x="5437080" y="5157720"/>
                <a:ext cx="1871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Frequenza (Hz)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Line 25"/>
              <p:cNvSpPr/>
              <p:nvPr/>
            </p:nvSpPr>
            <p:spPr>
              <a:xfrm>
                <a:off x="2124000" y="5300640"/>
                <a:ext cx="792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Line 26"/>
              <p:cNvSpPr/>
              <p:nvPr/>
            </p:nvSpPr>
            <p:spPr>
              <a:xfrm flipV="1">
                <a:off x="3781440" y="5589720"/>
                <a:ext cx="0" cy="57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Line 27"/>
              <p:cNvSpPr/>
              <p:nvPr/>
            </p:nvSpPr>
            <p:spPr>
              <a:xfrm flipH="1">
                <a:off x="4428720" y="5300640"/>
                <a:ext cx="936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2f2f2"/>
                </a:solidFill>
                <a:latin typeface="Tahoma"/>
              </a:rPr>
              <a:t>Il periodo </a:t>
            </a:r>
            <a:r>
              <a:rPr b="1" lang="it-IT" sz="32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f2f2f2"/>
                </a:solidFill>
                <a:latin typeface="Tahoma"/>
              </a:rPr>
              <a:t>dell’ onda è l’ intervallo di tempo che intercorre fra il passaggio di due creste o ventri successivi per lo stesso pun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2f2f2"/>
                </a:solidFill>
                <a:latin typeface="Tahoma"/>
              </a:rPr>
              <a:t>La frequenza</a:t>
            </a: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it-IT" sz="3600" spc="-1" strike="noStrike">
                <a:solidFill>
                  <a:srgbClr val="ffff00"/>
                </a:solidFill>
                <a:latin typeface="Tahoma"/>
              </a:rPr>
              <a:t>f </a:t>
            </a:r>
            <a:r>
              <a:rPr b="1" lang="it-IT" sz="1800" spc="-1" strike="noStrike">
                <a:solidFill>
                  <a:srgbClr val="f2f2f2"/>
                </a:solidFill>
                <a:latin typeface="Tahoma"/>
              </a:rPr>
              <a:t>dell’ onda indica quante volte il punto dell’ acqua oscilla in un secondo</a:t>
            </a:r>
            <a:r>
              <a:rPr b="0" lang="it-IT" sz="1800" spc="-1" strike="noStrike">
                <a:solidFill>
                  <a:srgbClr val="f2f2f2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7" descr="http://members.xoom.it/Perrone/audio/Onde-uguale_intensita-diver.gif"/>
          <p:cNvPicPr/>
          <p:nvPr/>
        </p:nvPicPr>
        <p:blipFill>
          <a:blip r:embed="rId2"/>
          <a:stretch/>
        </p:blipFill>
        <p:spPr>
          <a:xfrm>
            <a:off x="4716360" y="2781360"/>
            <a:ext cx="4224600" cy="2448000"/>
          </a:xfrm>
          <a:prstGeom prst="rect">
            <a:avLst/>
          </a:prstGeom>
          <a:ln w="0">
            <a:noFill/>
          </a:ln>
        </p:spPr>
      </p:pic>
      <p:sp>
        <p:nvSpPr>
          <p:cNvPr id="112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9ABE-E190-49F9-953E-CBF7A499FBC7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0" y="4005360"/>
            <a:ext cx="8207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it-IT" sz="1800" spc="-1" strike="noStrike">
                <a:solidFill>
                  <a:srgbClr val="2b2bfe"/>
                </a:solidFill>
                <a:latin typeface="Tahoma"/>
              </a:rPr>
              <a:t>Si definisce ampiezza </a:t>
            </a:r>
            <a:r>
              <a:rPr b="1" lang="it-IT" sz="3200" spc="-1" strike="noStrike">
                <a:solidFill>
                  <a:srgbClr val="ffff00"/>
                </a:solidFill>
                <a:latin typeface="Tahoma"/>
              </a:rPr>
              <a:t>A</a:t>
            </a:r>
            <a:r>
              <a:rPr b="1" lang="it-IT" sz="3200" spc="-1" strike="noStrike">
                <a:solidFill>
                  <a:srgbClr val="2b2bfe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2b2bfe"/>
                </a:solidFill>
                <a:latin typeface="Tahoma"/>
              </a:rPr>
              <a:t>dell’ onda lo spostamento massimo di  un                  punto dalla  sua posizione di equilibr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0" y="5157720"/>
            <a:ext cx="82184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b2bfe"/>
                </a:solidFill>
                <a:latin typeface="Tahoma"/>
              </a:rPr>
              <a:t>La distanza percorsa dal fronte dell’onda in un tempo pari al periodo di oscillazione di ciascun punto della corda si denomina lunghezza d’onda e si indica con</a:t>
            </a:r>
            <a:r>
              <a:rPr b="1" lang="it-IT" sz="1800" spc="-1" strike="noStrike">
                <a:solidFill>
                  <a:srgbClr val="2b2bfe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2929ff"/>
                </a:solidFill>
                <a:latin typeface="Tahoma"/>
              </a:rPr>
              <a:t>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10" descr="pulse.gif (91926 byte)"/>
          <p:cNvPicPr/>
          <p:nvPr/>
        </p:nvPicPr>
        <p:blipFill>
          <a:blip r:embed="rId3"/>
          <a:stretch/>
        </p:blipFill>
        <p:spPr>
          <a:xfrm>
            <a:off x="5076720" y="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egnaposto numero diapositiva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C7EB-7936-4A05-9983-8155E4AB1246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ahoma"/>
              </a:rPr>
              <a:t>Tipi di on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2"/>
          <a:stretch/>
        </p:blipFill>
        <p:spPr>
          <a:xfrm>
            <a:off x="4896000" y="1557360"/>
            <a:ext cx="4248000" cy="1512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324000" y="1484280"/>
            <a:ext cx="30970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Onda longitudinal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perturbazione lungo l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direzione di propagazio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Verdana"/>
              </a:rPr>
              <a:t>Esempio: onde sono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3"/>
          <a:stretch/>
        </p:blipFill>
        <p:spPr>
          <a:xfrm>
            <a:off x="4919760" y="3500280"/>
            <a:ext cx="4224240" cy="14414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0"/>
          <p:cNvSpPr/>
          <p:nvPr/>
        </p:nvSpPr>
        <p:spPr>
          <a:xfrm>
            <a:off x="395280" y="3645000"/>
            <a:ext cx="30956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b2bfe"/>
                </a:solidFill>
                <a:latin typeface="Verdana"/>
              </a:rPr>
              <a:t>Onda trasversale</a:t>
            </a:r>
            <a:r>
              <a:rPr b="0" lang="it-IT" sz="1800" spc="-1" strike="noStrike">
                <a:solidFill>
                  <a:srgbClr val="2b2bfe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2b2bfe"/>
                </a:solidFill>
                <a:latin typeface="Verdana"/>
              </a:rPr>
              <a:t>perturbazione perpendicol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2b2bfe"/>
                </a:solidFill>
                <a:latin typeface="Verdana"/>
              </a:rPr>
              <a:t>alla direzione di propagazio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2b2bfe"/>
                </a:solidFill>
                <a:latin typeface="Verdana"/>
              </a:rPr>
              <a:t>Esempio: lu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Line 11"/>
          <p:cNvSpPr/>
          <p:nvPr/>
        </p:nvSpPr>
        <p:spPr>
          <a:xfrm>
            <a:off x="3492360" y="2276640"/>
            <a:ext cx="1150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Line 12"/>
          <p:cNvSpPr/>
          <p:nvPr/>
        </p:nvSpPr>
        <p:spPr>
          <a:xfrm>
            <a:off x="3564000" y="4437000"/>
            <a:ext cx="1008000" cy="0"/>
          </a:xfrm>
          <a:prstGeom prst="line">
            <a:avLst/>
          </a:prstGeom>
          <a:ln w="47520">
            <a:solidFill>
              <a:srgbClr val="2b2bf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Line 16"/>
          <p:cNvSpPr/>
          <p:nvPr/>
        </p:nvSpPr>
        <p:spPr>
          <a:xfrm>
            <a:off x="6804000" y="1844640"/>
            <a:ext cx="1728720" cy="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6804000" y="220500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Direzione di propagazio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Line 19"/>
          <p:cNvSpPr/>
          <p:nvPr/>
        </p:nvSpPr>
        <p:spPr>
          <a:xfrm flipV="1">
            <a:off x="6732720" y="3860640"/>
            <a:ext cx="0" cy="432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Line 20"/>
          <p:cNvSpPr/>
          <p:nvPr/>
        </p:nvSpPr>
        <p:spPr>
          <a:xfrm>
            <a:off x="6732720" y="4292640"/>
            <a:ext cx="1584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21"/>
          <p:cNvSpPr/>
          <p:nvPr/>
        </p:nvSpPr>
        <p:spPr>
          <a:xfrm>
            <a:off x="6156360" y="4437000"/>
            <a:ext cx="28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Direzione di propagazio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egnaposto numero diapositiva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B398-8DAD-470F-BD17-53007FC2BD5D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403848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Riflessi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Rifrazi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ff"/>
                </a:solidFill>
                <a:latin typeface="Tahoma"/>
              </a:rPr>
              <a:t>Diffrazi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4572000" y="1773360"/>
            <a:ext cx="41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3708360" y="1700280"/>
            <a:ext cx="51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250920" y="765000"/>
            <a:ext cx="51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Si ha una riflessione quando un’ onda incontrando un ostacolo torna indietro nel mezzo al quale provie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0" y="27082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Quando un onda incontra la superficie di separazione di due mezzi diversi: una parte dell’ onda viene riflessa nel primo mezzo, l’ altra è trasmessa nel secondo mezzo cambiando direzione di propagazion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179280" y="443700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ff"/>
                </a:solidFill>
                <a:latin typeface="Tahoma"/>
              </a:rPr>
              <a:t>Si verifica quando l’ onda incontra un ostacolo che ha dimensioni uguali o minori della lunghezza d onda; l’ onda che arriva sul ostacolo lo aggira e prosegue il suo cammino indisturbat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12" descr="riflessione-impulso.gif (93688 byte)"/>
          <p:cNvPicPr/>
          <p:nvPr/>
        </p:nvPicPr>
        <p:blipFill>
          <a:blip r:embed="rId2"/>
          <a:stretch/>
        </p:blipFill>
        <p:spPr>
          <a:xfrm>
            <a:off x="6084720" y="0"/>
            <a:ext cx="2421000" cy="2421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4" descr="http://t1.gstatic.com/images?q=tbn:ANd9GcR_nCVQWAyKo-MMiPVwaY_0PG8u0F5StolFhvzMyabKsbAR-LILrw"/>
          <p:cNvPicPr/>
          <p:nvPr/>
        </p:nvPicPr>
        <p:blipFill>
          <a:blip r:embed="rId3"/>
          <a:stretch/>
        </p:blipFill>
        <p:spPr>
          <a:xfrm>
            <a:off x="6983280" y="2781360"/>
            <a:ext cx="2160720" cy="1295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6" descr="http://t1.gstatic.com/images?q=tbn:ANd9GcQjiTclO8J7ex5MpLkSyzOJpVXlorEGHoji5j9RvP-CKqy_RaT6"/>
          <p:cNvPicPr/>
          <p:nvPr/>
        </p:nvPicPr>
        <p:blipFill>
          <a:blip r:embed="rId4"/>
          <a:stretch/>
        </p:blipFill>
        <p:spPr>
          <a:xfrm>
            <a:off x="6156360" y="5373720"/>
            <a:ext cx="2560680" cy="1484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12:48:55Z</dcterms:created>
  <dc:creator>Miky</dc:creator>
  <dc:description/>
  <dc:language>en-US</dc:language>
  <cp:lastModifiedBy>Laura Polenta</cp:lastModifiedBy>
  <dcterms:modified xsi:type="dcterms:W3CDTF">2011-05-13T14:21:29Z</dcterms:modified>
  <cp:revision>29</cp:revision>
  <dc:subject/>
  <dc:title>Diapositiva 1</dc:title>
</cp:coreProperties>
</file>